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6142-D8B9-485D-B989-A3811CF8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F9E-08BC-4B47-AE86-9AAC0C7F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BE0-4E68-4107-90E9-6981E2E5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D15-C13B-49A2-B92F-9E2CBAC2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EA0-B72A-49D3-9BA9-6AC61105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55D-44B5-4A82-87C3-21A2BF2F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EA6-1BD8-4E7F-8A7A-FE4FEFAA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EA2-A1EF-4E63-9371-6277D11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923-210A-49AD-ACCE-BB06CECB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3D2-B325-4F99-AB0D-9BD03FE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AAE-E7F6-4677-ACC2-DD9B2A1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B20-2051-4751-A966-78F22E79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9422-E7B8-4F17-B555-FF20F89C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3F52-15FA-4D63-B060-DF7F942A2D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6915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  <a:ea typeface="宋体"/>
              </a:rPr>
              <a:t>Установка TCP-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3211560" y="47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50920" y="1305000"/>
            <a:ext cx="8534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F9C-089D-4434-BAD3-2AFE93C871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55440"/>
            <a:ext cx="73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 algn="ctr">
              <a:lnSpc>
                <a:spcPct val="100000"/>
              </a:lnSpc>
              <a:tabLst>
                <a:tab algn="l" pos="0"/>
                <a:tab algn="l" pos="542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етод скользящего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3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640" y="1773360"/>
            <a:ext cx="8101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-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егмент состоит из заголовка 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TCP Header"/>
          <p:cNvPicPr/>
          <p:nvPr/>
        </p:nvPicPr>
        <p:blipFill>
          <a:blip r:embed="rId1"/>
          <a:stretch/>
        </p:blipFill>
        <p:spPr>
          <a:xfrm>
            <a:off x="358920" y="1628640"/>
            <a:ext cx="85341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DE6-116E-4BCF-A3BA-BB96D687AB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237320"/>
            <a:ext cx="799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межуточные состоян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TCP-соединение во время функционирования проходит через ряд промежуточных состояний. Это состояния LISTEN, SYN-SENT, SYN-RECEIVED, ESTABLISHED, FIN-WAIT-1, FIN-WAIT-2, CLOSE-WAIT, CLOSING, LAST-ACK, TIME-WAIT, а также фиктивное состояние CLOSED. (Состояние CLOSED является фиктивным, поскольку оно представляет отсутствие соединения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A4C-2D72-480B-B3AE-1CBFEF8A80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62064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3280" y="-72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Фаза установления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800280"/>
            <a:ext cx="826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85DD-CDAE-4FB2-84E1-E42C4B9E7A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-72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Фаза закрытия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0661-D79D-440B-8024-6DEF3DACD9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954360"/>
            <a:ext cx="810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пределены следующие запросы процесса-клиента модулю TCP (с каждым запросом, кроме OPEN, передается имя соединения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CTIVE-OPEN - активное открытие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PASSIVE-OPEN - пассивное открытие соеди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60DF-4D94-4A93-95D4-6B241CAB86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62880"/>
            <a:ext cx="8101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END - отправка данных (передается указатель на буфер данных, размер буфера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RECEIVE - получение данных (передается указатель на буфер данных, размер буфера; возвращается счетчик полученных октетов, значения флагов URG и PSH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TATUS - запрос состояния со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EF6-5190-4104-AFF5-D27AD19271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1125360"/>
            <a:ext cx="774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 - закрытие соединения (производится досылка всех неотправленных данных и обмен сегментами с битом FIN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ABORT - ликвидация соединения (уничтожаются блок TCB и все неотправленные данные, посылается сегмент с битом RST).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9A0C-5D2D-4AE9-BF0A-AAA5C7790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640" y="80604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Состояния соеди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ISTEN - процесс пассивно ждет запроса со стороны чужих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SENT - процесс отправил свой SYN и ждет чужого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SYN-RECEIVED - процесс получил чужой SYN, отправил (раньше или только что) свой SYN и ждет ACK на свой SY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Протокол 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4E3C-CD80-4589-867D-B37038D9F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188720"/>
            <a:ext cx="759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1150-8D15-4C82-BC30-3E554A354A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429200"/>
            <a:ext cx="8136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ESTABLISHED - процесс отправил ACK на чужой SYN, получил ACK на свой SYN; соединение установле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Arial"/>
              </a:rPr>
              <a:t>FIN-WAIT-1 - процесс первый отправил свой FIN и ждет реакцию той стороны; при этом он, возможно, продолжает получать да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8CD4-40EA-4394-AEF5-2429AC853A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7640" y="1296360"/>
            <a:ext cx="8028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FIN-WAIT-2 - процесс получил ACK на свой ранее отправленный FIN, но не получил чужой FIN; ждет чужой FIN; при этом, возможно, продолжает получа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CLOSE-WAIT - процесс, не отправив свой FIN (возможно, не собираясь прекращать соединение), получает чужой FIN; он отправляет ACK на чужой FIN, но при этом, возможно, продолжает отправлять да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281880"/>
            <a:ext cx="84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LAST-ACK - процесс отправил свой FIN, но ранее он уже получил FIN с той стороны и отправил на него ACK; поэтому процесс ожидает чужой ACK на свой FIN для окончательного закрытия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ING - процесс ранее отправил свой FIN и еще не получил не него подтверждение, но получил чужой FIN (и отправил на него ACK); ждет ACK на свой F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8360" y="45648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TIME-WAIT - процесс ранее отправил свой FIN и получил на него подтверждение, получил чужой FIN и только что отправил на него ACK; теперь процесс ждет некоторое время (два времени жизни сегмента, обычно 4 минуты) для гарантии того, что та сторона получит его ACK на свой FIN, после чего соединение будет окончательно закрыт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CLOSED - соединение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овы недостатки протокола TCP? Подходы к их реш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приложение взаимодействует со стеком TCP/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На каком уровне стека TCP/IP находится протокол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состоит принцип асинхронной и синхронной передачи данны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идентифицируется прикладной процесс в протоколе TC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то такое метод скользящего ок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7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64556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 Функции протокола TC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. Заголовок TCP-сег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3. Промежуточные состоя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C5F-3081-4142-B9B6-FAC4CA8762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67940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  <a:ea typeface="宋体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Функции протокола T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Базовая передача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еспечение достовер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Разделение кана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соедине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правление пото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273-AE51-4E5D-B852-4CC5654F71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41336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TCP (Transmission Control Protocol, Протокол контроля передачи) обеспечивает сквозную доставку данных между прикладными процессами, запущенными на узлах, взаимодействующих по сети. Стандартное описание TCP содержится в RFC-79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A1E4-9D2C-4364-BDB9-52F6F5D8E4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98040"/>
            <a:ext cx="7956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Базовая передача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выполняет передачу непрерывных потоков данных между своими клиентами в обоих направлениях. Клиентами TCP являются прикладные процессы, вызывающие модуль TCP при необходимости получить или отправить данные процессу-клиенту на другом узл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F51-3182-485A-A430-6D793E6002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9280" y="2133720"/>
            <a:ext cx="77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Обеспечение достов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уль TCP обеспечивает защиту от повреждения, потери, дублирования и нарушения очередности получения дан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203B-F86C-4E6F-A763-1C67747974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6360" y="1178640"/>
            <a:ext cx="792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азделение кана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ротокол TCP обеспечивает работу одновременно нескольких соединений. Заголовок TCP-сегмента содержит номера портов процесса-отправителя и процесса-получателя. При получении сегмента модуль TCP анализирует номер порта получателя и отправляет данные соответствующему прикладному проце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41EC-D741-4CEA-A186-F9105394DA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27200"/>
            <a:ext cx="71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Управление соедин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единение - это совокупность информации о состоянии потока данных, включающая сокеты, номера посланных, принятых и подтвержденных октетов, размеры око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ое соединение уникально идентифицируется в Интернет парой соке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23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39Z</dcterms:modified>
  <cp:revision>149</cp:revision>
  <dc:subject/>
  <dc:title>Lecture Template </dc:title>
</cp:coreProperties>
</file>